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3F8-12A8-4C37-B4C8-F3C69B55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4F7-8CB4-43BA-A00F-B90F3680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23E-3B29-4BFC-AB71-75AC0957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D59-CC42-4DFD-A6E4-4A05E3BA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369-4D93-457F-9CF6-E58EEA17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E5A-251C-4C93-B61C-14B56B6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FD0-F73D-4A32-A16D-823389B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F12-BEEA-4BD4-86DD-BDF4168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746-13E0-49A3-881B-7620640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02F-57A1-444E-AD74-9A3645B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0A8-FCF8-49C0-BC87-4EAF155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61D-29D0-48F0-8453-26E4F6B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479-4F73-4F6C-83AA-1A78C97C7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457280" y="208080"/>
            <a:ext cx="6338880" cy="110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www.socialpicks.com/photo/name/3348/money.jpg"/>
          <p:cNvPicPr/>
          <p:nvPr/>
        </p:nvPicPr>
        <p:blipFill>
          <a:blip r:embed="rId2"/>
          <a:stretch/>
        </p:blipFill>
        <p:spPr>
          <a:xfrm>
            <a:off x="2971800" y="18288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loc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ocity- indicates the number of times per year that an “average dollar” is spent on good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= Nominal GDP/Money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quation of exchange- M x V = P x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antity theory of money assumes that velocity is approximately constant. In that case, nominal GDP is proportional to the money 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tarist Approach to Velo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 that velocity can be predicted, so they can use the model of M x V = P x Y. So if they can control M and predict V, they can predict nominal G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locity is predictable, certainly in the long run, probably in the short r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 Control of Money Supply &amp; i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ed controls money supply to affect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y use expansionary monetary policy, they will buy bonds on the open market, increasing the money supply and decreasing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y use contractionary monetary policy, they will sell bonds on the open market, decreasing the money supply and increasing interest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can also use the FFR which is the basis for the prime rate which is the interest rate given to best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ects of Quantity of Money Supplied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quantity of money supplied goes down, interest rates go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quantity of money supplied goes up, interest rates go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terest rates go up, then I goes down, AD goes down, and GDP goe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nterest rates go down, then I goes up, AD goes up, and GDP goes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10:18Z</dcterms:created>
  <dc:creator>sth_user</dc:creator>
  <dc:description/>
  <dc:language>en-US</dc:language>
  <cp:lastModifiedBy>HP Authorized Customer</cp:lastModifiedBy>
  <dcterms:modified xsi:type="dcterms:W3CDTF">2009-01-27T22:30:07Z</dcterms:modified>
  <cp:revision>7</cp:revision>
  <dc:subject/>
  <dc:title>Slide 1</dc:title>
</cp:coreProperties>
</file>